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54F7-1D4F-4BBF-80FC-05AC25E3E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A4A-0C68-455C-9C8E-A93C2176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573-FE3C-4A7A-92D9-56D66BDB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629A0-BD9B-4AD8-BDD5-F29856AF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5E925-0EE6-42EC-98A2-900E8224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278D4-AC08-454D-AC8B-649C872D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6D486-0B1E-48CE-B9E3-4415AEC3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819DE-F60C-4AAE-8629-BDF5F5A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55942-957D-406E-A666-BE8A59D6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AAAA4-AA32-4614-892B-DEDBCE65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6713C-6F9E-45FB-88D2-8E0F6599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827C2-AEB0-4E85-BC8B-261FC596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CCC48-38E0-4836-AB23-C95D88FA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230-D4FD-400B-B1AD-2331214F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F7C56-814C-43DE-AB86-6B85DC23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2F6B1-DC03-4A4F-B4C9-EE543118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67716-2894-4F74-B55A-2E54F724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A9DBB-6C08-4BBF-8DC9-4150C162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6611C-5D7B-4A49-B922-150C00A9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2654E-29B0-452B-A194-0A15A54A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14431-1730-4254-91DB-226744C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4C6D2-1022-489C-9D15-405C0FC6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ABB6D-B041-4A61-B3AE-B73E14C0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42020-CB33-47BE-916D-7C55AC01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86B-CD63-49A9-8AAD-84900F9D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5AA5E-C90E-4296-8E32-DAEF8EA0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DF144-426A-4B7C-8FE6-125FEA8E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32207-9D10-4726-A8E9-109183B8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1A26C-C42E-4A28-8B68-399BB199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8F379-3226-4204-863E-566BC5C6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894C6-3B18-49EC-B66F-6076722E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E763A-5CBD-4C58-9808-BE8D405F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99976-DCE7-4224-B937-3DFFED89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4D5B5-8AEC-422F-96B3-5F57DE3A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315BF-962D-4682-A15A-F1046741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3D27-6C72-451F-B297-4E28A775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F5F52-764A-49A1-8887-C137B2E1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F98C7-64ED-4925-AB0E-1B4CD9BE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9CE98-6A44-48D8-9E4F-949532B3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2388E-3B51-4A31-A28B-27A336C7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D3085-A8CB-457E-BBBB-2322E5ED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9C6A4-21FA-4836-99C0-48BF1CE5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92063-AD23-4913-9293-6D577663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B0186-4EF0-4DF0-966F-48638F25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D5828-8FAE-43DC-9469-78399BE4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60163-5938-49CB-8106-728881D1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398D-D190-471C-822E-FD81461A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07BE5-D954-430D-938E-F5DF798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F68CA-1A5D-47D6-A131-C4640D7E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44ABB-CC84-47A8-A8F6-33D0A2D7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9922B-B09A-4B5A-B1E2-0273F9A3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420B5-0471-44FC-B615-4166D530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F1B2B-59B8-480E-ABA5-DBE021CE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560B5-805F-4570-B111-A2E379F2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2551D-308D-4931-B9E2-8D2EFD41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CDE1C-CAD8-4B31-988C-23F74E79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2122A-D5AD-4199-8AAD-33C66E7B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017B-9E87-4FDA-B8C2-796BFB60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E58D5-0621-45DB-9765-9131D645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67A48-8C90-469C-AE35-16D66F52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AAA4C-99B8-4DFD-9E2C-2F5A79A6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CE62B-4166-40A8-98EE-56627CF2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84AAB-3D8C-49D9-8E0E-72F03049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B0A64-DB7E-45F7-AD50-00809397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A8832-49A1-4B94-9A14-F2E67E72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F6D60-DFEB-4D05-815F-84D53B4E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51489-6C9B-41AC-8380-F269C228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DE8C4-9DB3-40DD-879E-627055E7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D878-9A68-4F9B-AEBE-1C3E63EB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18718-20A9-4F24-9C75-711A44E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D5462-F806-4947-8A6D-F0B844EB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D041F-60A8-404E-98E8-A3164E5C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00D16-F35F-4804-85CC-5C05FEEB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22EFD-9D50-4F9E-9B72-5D0AD360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BAF44-B869-4A47-850C-EB9365EF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EE61C-A9C6-48DF-8C15-42D7A6D0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59900-5634-478D-83D2-9ACB1E23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010D2-C39E-49E0-A9E5-F525677C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6814-395C-45E4-8CFF-E8DA4BB4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DBBD-F5EB-4631-BB01-8DAC28FB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00D6-07DB-4EAD-9D86-F8505D2A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9FB-7757-4D38-B4D3-44B31EA5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5A6A-B69C-47C1-B4DF-DA50AC72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033E-4FC6-4EE2-AAA0-69ED6688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53B7-3E21-404C-8761-AF32ECE3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6442-86D9-4E0A-8796-7D3C3FD2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9B3D-102C-4A2D-B6C1-58C86313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5F4EA-E0F0-4049-A8FC-CB5E2E82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A0A5-4DDD-4A9E-BAC7-F2703597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4580-626B-49D9-B74F-DA27BE23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E81C-A821-47DB-8B37-0C39C0A7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E09A-DC62-4858-AB9B-6452F01F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221-A7D6-44C0-A048-33626C14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29E21-6D8F-4848-A527-2B2DE784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7B79-5906-43EF-898B-4440EB6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2602-3A0B-47E1-A70C-3C1E250B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3AA36-C3B0-4C02-B029-15C11D28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6D33-3B3C-4B79-94EC-1699EA9D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3B54-A6F0-4D26-9DC0-093FA2B7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D05AB-F5BC-478D-98D6-0A915CC2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2AD63-2AA0-4984-B3B0-2983ABC9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788A7-F3B3-4A1F-AFDE-8087B45E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1298-59C1-44EB-A8E9-A3316FBF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187-C80A-4C45-A80C-854C8629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C2FE1-FAE9-43E0-AAA9-27E294CD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48E9C-53A6-4943-B404-1DA8FF7D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DDDCD-37E0-42D9-8DFA-602481C8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F1B9-DBDC-4443-8AA2-993757A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8FAB-7E93-463E-8719-BCD007FC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7B72A-F389-483D-81B9-C1C88407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609B1-222A-4EF3-89F5-F7BE4FC7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16D2-5051-4730-BD63-849375F4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2C64-3D87-4191-8A12-47C37537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C7BBA-92A9-4D02-AED7-58F36C6C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E5B-5CC0-4EA7-8EB5-EF3B3CE1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51A17-C9E0-45CC-9BA1-C28E1A10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A2EE3-D6CC-483A-810D-C4047620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CBE4A-C46A-480F-BDD5-19F909B7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F5835-327F-49E7-9E06-96D86CB1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81669-2574-4D96-808D-5D6BE1F4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0F0B-C0B2-4D62-BB6F-D6A5D592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987C4-18D4-49E7-9D15-B99B3A5C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5A00E-82F3-43D6-A237-686A4E4E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5E964-03D4-4127-9D40-24B4D5E6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EECB4-1177-47D3-A5C5-BFCEBAC0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C06-3791-4EE8-93B5-BB2850D3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10666-9D1C-47D0-8A6A-2A740B10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A0BBE-527D-4AA3-B2F5-08D870E8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CA7CE-F700-459E-B56B-419D1665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F48CC-F915-41DF-8793-DC15E29F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38759-92D3-4488-ADBD-755D6B08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C6D57-919E-4E23-8C14-96E56543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9669F-47EA-4133-A266-8BAA53AA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CD39B-AE7B-4117-A4FD-B4BAD38A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0CE0F-0DC8-42EF-9C3A-A94FD9E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5FC72-2F79-42B3-8EC0-5DF3AE7B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DAF-0488-40DE-A656-2CB5D4A1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20B55-7D8A-48E4-BB64-8DD27C31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3E366-6E71-4083-9DBE-0F34155F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FA47C-04A5-47B7-85B8-4154A54E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4DF43-5A7A-4040-840B-FBDFFE0A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B42BF-1D30-46F5-B22C-14A94E90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0D3DE-BAC3-4465-8389-13DE3999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23346-95A1-482B-8E84-4CB87FAB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B848-2611-4307-94FA-77B4937A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C5E2A-3C5D-4A90-9AB4-EC9B8EC6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EBCAE-F596-48C4-80D2-F87BDFEA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D61-1FD5-4CD8-9800-8C88F6E4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A850C-E9F1-4703-ACCA-977BBDA5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BDC9-FF62-4B8B-931C-CD929870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71718-B6C3-4E53-B238-DC3BBB83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DF7D7-465A-4B6A-9B4D-C2A34AB6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46C1-7FD8-450B-900B-0C6DEDA5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EBFD5-C080-4533-8719-10EFD3FB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32470-00E3-44C2-BE0B-E27DE9E8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B36E8-140F-49D6-9C9C-FCF8CCEA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98F5E-B0D7-408B-AABF-E7223954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CB994-712C-4F8B-AD40-D646E043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81C-E32E-4FB7-8EA2-5DD8439C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73FBB-5346-49CC-A129-0177F40C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FBB49-4A67-4D26-9A8C-E7E1E725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8B176-7BB8-4E31-BC09-87D9AB26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8671C-418A-47E8-B6A4-7EFC05A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54E26-05F4-4734-870D-A6711418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D4792-CE36-4C04-9A11-F5664203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3AE06-2B69-4572-A8DB-0205E7E8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7120A-D330-4E70-A825-C23BB08C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69425-35DD-495E-AB03-9580502F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67E15-52BD-48D2-825B-E7EBA258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7FE3-F400-4F8A-93DF-A5C7E6754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8694-69A3-4C3C-90EF-2EA384C15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B908-0648-48DA-A248-F7ACBC23F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0B81-BC3A-4629-86D8-6F9FC5263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48CD-027A-4D0D-8D7C-834D4067C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ADE4-40BA-4D49-AC8D-601234D3D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9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FDBD-ADF7-475F-899E-5DF543423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2DE1-0EE3-4516-B793-79D51B0CE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B98D-75CF-47EB-ABA3-73ABB661C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2F22-B6BE-403F-813F-E2F42B6E9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CCDB-7C66-44D0-AAAF-EF379077A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EB15-013A-4146-B1C1-36E3863C7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C3F7-870E-4B30-B721-06C261D12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1653-8614-4A4F-B784-6B402C080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quest.net/biology/images/histology/anaphase-allium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Rep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ro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Eu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7" descr="plant"/>
          <p:cNvPicPr/>
          <p:nvPr/>
        </p:nvPicPr>
        <p:blipFill>
          <a:blip r:embed="rId1"/>
          <a:stretch/>
        </p:blipFill>
        <p:spPr>
          <a:xfrm>
            <a:off x="5867280" y="2286000"/>
            <a:ext cx="2895840" cy="354816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2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Time between DNA synthesis &amp;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continues grow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Needed proteins produc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growth &amp; protein production 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’s energy used to make 2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alled mitosis or karyokinesis (nuclear divis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fe Cycle of a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0" name="Picture 4" descr="mitosis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709560" y="5715000"/>
            <a:ext cx="77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Mitosis is a cycle with n</a:t>
            </a: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o</a:t>
            </a: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 beginning or e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 – Resting St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s carrying on normal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aren’t vi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metabolism is occur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Occurs before mit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allium2"/>
          <p:cNvPicPr/>
          <p:nvPr/>
        </p:nvPicPr>
        <p:blipFill>
          <a:blip r:embed="rId1"/>
          <a:stretch/>
        </p:blipFill>
        <p:spPr>
          <a:xfrm>
            <a:off x="1447920" y="1981080"/>
            <a:ext cx="6667560" cy="35737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ges of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Pr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Met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An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Tel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s Undergoing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3" name="Picture 4" descr="Onion root tip cells undergoing mit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5867280" cy="401472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DNA coils tightly &amp; becomes visible as chromos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lear membrane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eolus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ntrioles migrate to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Spindle begins to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9" name="Picture 4" descr="56844b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324320"/>
          </a:xfrm>
          <a:prstGeom prst="rect">
            <a:avLst/>
          </a:prstGeom>
          <a:ln w="0">
            <a:noFill/>
          </a:ln>
        </p:spPr>
      </p:pic>
      <p:sp>
        <p:nvSpPr>
          <p:cNvPr id="6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ic Chromos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0" descr="chromosome1"/>
          <p:cNvPicPr/>
          <p:nvPr/>
        </p:nvPicPr>
        <p:blipFill>
          <a:blip r:embed="rId1"/>
          <a:stretch/>
        </p:blipFill>
        <p:spPr>
          <a:xfrm>
            <a:off x="1523880" y="2743200"/>
            <a:ext cx="6058080" cy="2811600"/>
          </a:xfrm>
          <a:prstGeom prst="rect">
            <a:avLst/>
          </a:prstGeom>
          <a:ln w="0">
            <a:noFill/>
          </a:ln>
        </p:spPr>
      </p:pic>
      <p:sp>
        <p:nvSpPr>
          <p:cNvPr id="6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Lack a nucle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Have a single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Reproduce by binary f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Include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man Chromos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0" descr="karyotyp"/>
          <p:cNvPicPr/>
          <p:nvPr/>
        </p:nvPicPr>
        <p:blipFill>
          <a:blip r:embed="rId1"/>
          <a:stretch/>
        </p:blipFill>
        <p:spPr>
          <a:xfrm>
            <a:off x="1143000" y="2590920"/>
            <a:ext cx="6477120" cy="304776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from centrioles attach to each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reparing to separate its chromos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aligns its chromosomes in the middl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allium1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chromosomes are sepa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shorten so chromosomes pulled to ends of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totic Spind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Picture 4" descr="spindle"/>
          <p:cNvPicPr/>
          <p:nvPr/>
        </p:nvPicPr>
        <p:blipFill>
          <a:blip r:embed="rId1"/>
          <a:stretch/>
        </p:blipFill>
        <p:spPr>
          <a:xfrm>
            <a:off x="1752480" y="2286000"/>
            <a:ext cx="5635800" cy="3965400"/>
          </a:xfrm>
          <a:prstGeom prst="rect">
            <a:avLst/>
          </a:prstGeom>
          <a:ln w="0">
            <a:noFill/>
          </a:ln>
        </p:spPr>
      </p:pic>
      <p:sp>
        <p:nvSpPr>
          <p:cNvPr id="6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allium3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eparation of chromosomes compl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late forms (pla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leavage furrow forms(anima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Nucleus &amp; nucleolus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unc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7" descr="daughtercells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Telophase (in center)"/>
          <p:cNvPicPr/>
          <p:nvPr/>
        </p:nvPicPr>
        <p:blipFill>
          <a:blip r:embed="rId2"/>
          <a:stretch/>
        </p:blipFill>
        <p:spPr>
          <a:xfrm>
            <a:off x="609480" y="21337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1732680" y="609300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Pl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6509160" y="61326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Occurs after chromosomes sepa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orms two, identical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6" name="Picture 3" descr="teloph"/>
          <p:cNvPicPr/>
          <p:nvPr/>
        </p:nvPicPr>
        <p:blipFill>
          <a:blip r:embed="rId1"/>
          <a:stretch/>
        </p:blipFill>
        <p:spPr>
          <a:xfrm>
            <a:off x="1600200" y="1679400"/>
            <a:ext cx="5638680" cy="3835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0"/>
          <p:cNvSpPr/>
          <p:nvPr/>
        </p:nvSpPr>
        <p:spPr>
          <a:xfrm flipH="1">
            <a:off x="1219320" y="5716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ll Plate Forming in Plant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Us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ells increase their cell mass sligh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DNA &amp; cell components are repl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Each cell divides into 2 daughter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8" descr="Binary Fission of rod-shaped bacterial cell"/>
          <p:cNvPicPr/>
          <p:nvPr/>
        </p:nvPicPr>
        <p:blipFill>
          <a:blip r:embed="rId1"/>
          <a:stretch/>
        </p:blipFill>
        <p:spPr>
          <a:xfrm>
            <a:off x="5105520" y="2666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nary Fission of Bacterial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5" name="Picture 4" descr="69091a"/>
          <p:cNvPicPr/>
          <p:nvPr/>
        </p:nvPicPr>
        <p:blipFill>
          <a:blip r:embed="rId1"/>
          <a:stretch/>
        </p:blipFill>
        <p:spPr>
          <a:xfrm>
            <a:off x="1600200" y="2133720"/>
            <a:ext cx="5257800" cy="4173480"/>
          </a:xfrm>
          <a:prstGeom prst="rect">
            <a:avLst/>
          </a:prstGeom>
          <a:ln w="0">
            <a:noFill/>
          </a:ln>
        </p:spPr>
      </p:pic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. Coli Dividing by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8" name="Picture 5" descr="96444c"/>
          <p:cNvPicPr/>
          <p:nvPr/>
        </p:nvPicPr>
        <p:blipFill>
          <a:blip r:embed="rId1"/>
          <a:stretch/>
        </p:blipFill>
        <p:spPr>
          <a:xfrm>
            <a:off x="1143000" y="2068560"/>
            <a:ext cx="7086600" cy="4253040"/>
          </a:xfrm>
          <a:prstGeom prst="rect">
            <a:avLst/>
          </a:prstGeom>
          <a:ln w="0">
            <a:noFill/>
          </a:ln>
        </p:spPr>
      </p:pic>
      <p:sp>
        <p:nvSpPr>
          <p:cNvPr id="6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ntain a nucleus &amp; membrane bound organel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Asexually reproduce cells by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tages in growth &amp;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1 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2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M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ytoki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7" descr="cellcycle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6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1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irst growth s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increases i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prepares to copy its D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nthesis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pying of all of DNA’s instru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hromosomes duplic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22:28:00Z</dcterms:created>
  <dc:creator>Cheryl Massengale</dc:creator>
  <dc:description/>
  <dc:language>en-US</dc:language>
  <cp:lastModifiedBy>LEGION</cp:lastModifiedBy>
  <dcterms:modified xsi:type="dcterms:W3CDTF">2016-12-07T12:34:55Z</dcterms:modified>
  <cp:revision>26</cp:revision>
  <dc:subject/>
  <dc:title>cell reproduction</dc:title>
</cp:coreProperties>
</file>